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type.wav" ContentType="audio/x-wav"/>
  <Override PartName="/ppt/media/image7.wmf" ContentType="image/x-wmf"/>
  <Override PartName="/ppt/media/chimes.wav" ContentType="audio/x-wav"/>
  <Override PartName="/ppt/media/ricochet.wav" ContentType="audio/x-wav"/>
  <Override PartName="/ppt/media/explode.wav" ContentType="audio/x-wav"/>
  <Override PartName="/ppt/media/image6.png" ContentType="image/png"/>
  <Override PartName="/ppt/media/image14.wmf" ContentType="image/x-wmf"/>
  <Override PartName="/ppt/media/camera.wav" ContentType="audio/x-wav"/>
  <Override PartName="/ppt/media/image5.wmf" ContentType="image/x-wmf"/>
  <Override PartName="/ppt/media/image4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drumroll.wav" ContentType="audio/x-wav"/>
  <Override PartName="/ppt/media/image13.wmf" ContentType="image/x-wmf"/>
  <Override PartName="/ppt/media/whoosh.wav" ContentType="audio/x-wav"/>
  <Override PartName="/ppt/media/image12.wmf" ContentType="image/x-wmf"/>
  <Override PartName="/ppt/media/image11.wmf" ContentType="image/x-wmf"/>
  <Override PartName="/ppt/media/image10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  <p:custShowLst>
    <p:custShow name="Custom Show 1" id="0">
      <p:sldLst>
        <p:sld r:id="rId6"/>
      </p:sldLst>
    </p:custShow>
    <p:custShow name="Custom Show 2" id="1">
      <p:sldLst>
        <p:sld r:id="rId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33EB-CF1F-47FA-A24F-0F4C3D9AD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0FD8-49F7-4999-BFB3-0186A367F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A3B7-61C5-409E-87F4-E76278DFF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F9AE-E3B1-4195-8491-BFB24823F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27BF2-0714-42A9-8D46-96398CF3D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B2C2B-A3AB-45EC-9196-E727E3AF6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51650-66A6-4065-9D7D-A4658D090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3470B-E0D2-4FA5-A06E-49ED0BD67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D4D5E-94DD-474E-8D91-DC416F866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EF11A-F7BA-492C-95E8-84806C74B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EF9C3-EACE-4D6F-ABB4-0ABEEECB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A462-A44E-44D6-BAEE-302F7B383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9D68C-A73D-4009-8C15-92C012B1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17152-8BD4-4BB1-B88C-FE4E12CF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F56D3-3647-491C-931F-2D96D8C07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5D9EF-ACB1-4F86-8C94-3E2365314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D1AB2-DE4B-448E-AFB8-8A927894E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14B4-A3C5-4BD3-8DA3-BE45CFCC0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F753-CD11-4AA1-8271-94AFD0941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16C1-EB6C-473B-BC69-F44C6EEA6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5F9D-959E-4112-BEC8-50B27F070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B2A5-06F6-4DA7-BA27-90A016EC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BA80-4F32-4479-AE36-A72589A6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D878-8B46-49C8-AF7C-4A1B50CB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FD483-431B-44EA-9916-D9D0F9BEE9B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DA3B3-2A68-4B15-BB01-ACE236FF489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file:///tmp/home/.config/libreoffice/4/user/gallery/carbrake.wav" TargetMode="External"/><Relationship Id="rId3" Type="http://schemas.microsoft.com/office/2007/relationships/media" Target="file:///tmp/home/.config/libreoffice/4/user/gallery/carbrake.wav" TargetMode="External"/><Relationship Id="rId4" Type="http://schemas.openxmlformats.org/officeDocument/2006/relationships/image" Target="../media/image6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audio" Target="../media/chimes.wav"/><Relationship Id="rId7" Type="http://schemas.openxmlformats.org/officeDocument/2006/relationships/audio" Target="../media/whoosh.wav"/><Relationship Id="rId8" Type="http://schemas.openxmlformats.org/officeDocument/2006/relationships/audio" Target="../media/drumroll.wav"/><Relationship Id="rId9" Type="http://schemas.openxmlformats.org/officeDocument/2006/relationships/audio" Target="../media/drumroll.wav"/><Relationship Id="rId10" Type="http://schemas.openxmlformats.org/officeDocument/2006/relationships/audio" Target="../media/drumroll.wav"/><Relationship Id="rId11" Type="http://schemas.openxmlformats.org/officeDocument/2006/relationships/audio" Target="../media/drumroll.wav"/><Relationship Id="rId12" Type="http://schemas.openxmlformats.org/officeDocument/2006/relationships/audio" Target="../media/drumroll.wav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audio" Target="../media/chimes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9.wmf"/><Relationship Id="rId3" Type="http://schemas.openxmlformats.org/officeDocument/2006/relationships/audio" Target="../media/chimes.wav"/><Relationship Id="rId4" Type="http://schemas.openxmlformats.org/officeDocument/2006/relationships/audio" Target="../media/ricochet.wav"/><Relationship Id="rId5" Type="http://schemas.openxmlformats.org/officeDocument/2006/relationships/audio" Target="../media/ricochet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834840" y="228600"/>
            <a:ext cx="629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Verdana"/>
              </a:rPr>
              <a:t>¿Qué tiempo hace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219320" y="1752480"/>
            <a:ext cx="3276720" cy="1827360"/>
            <a:chOff x="1219320" y="1752480"/>
            <a:chExt cx="3276720" cy="182736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1219320" y="1752480"/>
              <a:ext cx="1306440" cy="18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2431800" y="1828800"/>
              <a:ext cx="206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La primave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114800" y="4876920"/>
            <a:ext cx="2162160" cy="1643040"/>
            <a:chOff x="4114800" y="4876920"/>
            <a:chExt cx="2162160" cy="1643040"/>
          </a:xfrm>
        </p:grpSpPr>
        <p:pic>
          <p:nvPicPr>
            <p:cNvPr id="88" name="" descr=""/>
            <p:cNvPicPr/>
            <p:nvPr/>
          </p:nvPicPr>
          <p:blipFill>
            <a:blip r:embed="rId2"/>
            <a:stretch/>
          </p:blipFill>
          <p:spPr>
            <a:xfrm>
              <a:off x="4114800" y="5334120"/>
              <a:ext cx="2162160" cy="11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4326120" y="4876920"/>
              <a:ext cx="168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El invier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57200" y="4038480"/>
            <a:ext cx="1676520" cy="1983960"/>
            <a:chOff x="457200" y="4038480"/>
            <a:chExt cx="1676520" cy="1983960"/>
          </a:xfrm>
        </p:grpSpPr>
        <p:pic>
          <p:nvPicPr>
            <p:cNvPr id="91" name="" descr=""/>
            <p:cNvPicPr/>
            <p:nvPr/>
          </p:nvPicPr>
          <p:blipFill>
            <a:blip r:embed="rId3"/>
            <a:stretch/>
          </p:blipFill>
          <p:spPr>
            <a:xfrm>
              <a:off x="457200" y="4038480"/>
              <a:ext cx="167652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573120" y="5562720"/>
              <a:ext cx="13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El otoñ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5392080" y="2057400"/>
            <a:ext cx="3355200" cy="1752480"/>
            <a:chOff x="5392080" y="2057400"/>
            <a:chExt cx="3355200" cy="1752480"/>
          </a:xfrm>
        </p:grpSpPr>
        <p:pic>
          <p:nvPicPr>
            <p:cNvPr id="94" name="" descr=""/>
            <p:cNvPicPr/>
            <p:nvPr/>
          </p:nvPicPr>
          <p:blipFill>
            <a:blip r:embed="rId4"/>
            <a:stretch/>
          </p:blipFill>
          <p:spPr>
            <a:xfrm>
              <a:off x="7023240" y="2057400"/>
              <a:ext cx="17240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5392080" y="3200400"/>
              <a:ext cx="150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El vera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pull dir="d"/>
    <p:sndAc>
      <p:stSnd>
        <p:snd r:embed="rId5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834840" y="228600"/>
            <a:ext cx="629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Verdana"/>
              </a:rPr>
              <a:t>¿Qué tiempo hace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954520" y="1703520"/>
            <a:ext cx="2301840" cy="703440"/>
            <a:chOff x="2954520" y="1703520"/>
            <a:chExt cx="2301840" cy="703440"/>
          </a:xfrm>
        </p:grpSpPr>
        <p:sp>
          <p:nvSpPr>
            <p:cNvPr id="98" name=""/>
            <p:cNvSpPr/>
            <p:nvPr/>
          </p:nvSpPr>
          <p:spPr>
            <a:xfrm>
              <a:off x="2954520" y="1703520"/>
              <a:ext cx="1436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a50021"/>
                  </a:solidFill>
                  <a:latin typeface="Verdana"/>
                </a:rPr>
                <a:t>Hac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786200" y="170352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a50021"/>
                  </a:solidFill>
                  <a:latin typeface="Verdana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4010040" y="2895480"/>
            <a:ext cx="39128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Verdana"/>
              </a:rPr>
              <a:t>buen / mal tiem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Verdana"/>
              </a:rPr>
              <a:t>s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Verdana"/>
              </a:rPr>
              <a:t>ca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Verdana"/>
              </a:rPr>
              <a:t>frí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Verdana"/>
              </a:rPr>
              <a:t>fres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Verdana"/>
              </a:rPr>
              <a:t>V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84120" y="2895480"/>
            <a:ext cx="135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Verdana"/>
              </a:rPr>
              <a:t>(mu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98400" y="4829040"/>
            <a:ext cx="185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Verdana"/>
              </a:rPr>
              <a:t>(much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  <p:sndAc>
      <p:stSnd>
        <p:snd r:embed="rId1" name="chimes.wav"/>
      </p:stSnd>
    </p:sndAc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959040" y="228600"/>
            <a:ext cx="700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Verdana"/>
              </a:rPr>
              <a:t>Hace buen tiempo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895480" y="2438280"/>
            <a:ext cx="3413160" cy="34689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5943600" y="2514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  <p:sndAc>
      <p:stSnd>
        <p:snd r:embed="rId5" name="chimes.wav"/>
      </p:stSnd>
    </p:sndAc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5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34560" y="228600"/>
            <a:ext cx="656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Verdana"/>
              </a:rPr>
              <a:t>Hace mal tiempo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743200" y="2362320"/>
            <a:ext cx="3251160" cy="326844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  <p:sndAc>
      <p:stSnd>
        <p:snd r:embed="rId2" name="explode.wav"/>
      </p:stSnd>
    </p:sndAc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98960" y="228600"/>
            <a:ext cx="264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Verdana"/>
              </a:rPr>
              <a:t>Hace 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1371600" cy="13586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7620120" y="1828800"/>
            <a:ext cx="742680" cy="2133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410080" y="4648320"/>
            <a:ext cx="1446480" cy="1447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3809880" y="1828800"/>
            <a:ext cx="1752840" cy="9558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1905120" y="4724280"/>
            <a:ext cx="1752480" cy="13845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68800" y="3384720"/>
            <a:ext cx="848160" cy="4597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Verdana"/>
              </a:rPr>
              <a:t>…</a:t>
            </a:r>
            <a:r>
              <a:rPr b="1" i="1" lang="en-US" sz="2400" spc="-1" strike="noStrike">
                <a:solidFill>
                  <a:srgbClr val="ff6600"/>
                </a:solidFill>
                <a:latin typeface="Verdana"/>
              </a:rPr>
              <a:t>s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71600" y="2851200"/>
            <a:ext cx="1160640" cy="4597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Verdana"/>
              </a:rPr>
              <a:t>…</a:t>
            </a:r>
            <a:r>
              <a:rPr b="1" i="1" lang="en-US" sz="2400" spc="-1" strike="noStrike">
                <a:solidFill>
                  <a:srgbClr val="ff6600"/>
                </a:solidFill>
                <a:latin typeface="Verdana"/>
              </a:rPr>
              <a:t>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57400" y="3917880"/>
            <a:ext cx="945720" cy="4597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Verdana"/>
              </a:rPr>
              <a:t>…</a:t>
            </a:r>
            <a:r>
              <a:rPr b="1" i="1" lang="en-US" sz="2400" spc="-1" strike="noStrike">
                <a:solidFill>
                  <a:srgbClr val="ff6600"/>
                </a:solidFill>
                <a:latin typeface="Verdana"/>
              </a:rPr>
              <a:t>fr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43200" y="6172200"/>
            <a:ext cx="1337400" cy="4597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Verdana"/>
              </a:rPr>
              <a:t>…</a:t>
            </a:r>
            <a:r>
              <a:rPr b="1" i="1" lang="en-US" sz="2400" spc="-1" strike="noStrike">
                <a:solidFill>
                  <a:srgbClr val="ff6600"/>
                </a:solidFill>
                <a:latin typeface="Verdana"/>
              </a:rPr>
              <a:t>v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100240" y="6172200"/>
            <a:ext cx="1317600" cy="4597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Verdana"/>
              </a:rPr>
              <a:t>…</a:t>
            </a:r>
            <a:r>
              <a:rPr b="1" i="1" lang="en-US" sz="2400" spc="-1" strike="noStrike">
                <a:solidFill>
                  <a:srgbClr val="ff6600"/>
                </a:solidFill>
                <a:latin typeface="Verdana"/>
              </a:rPr>
              <a:t>fre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  <p:sndAc>
      <p:stSnd>
        <p:snd r:embed="rId6" name="chimes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34840" y="228600"/>
            <a:ext cx="629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Verdana"/>
              </a:rPr>
              <a:t>¿Qué tiempo hace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913760" y="1752480"/>
            <a:ext cx="5014080" cy="1219320"/>
            <a:chOff x="1913760" y="1752480"/>
            <a:chExt cx="5014080" cy="1219320"/>
          </a:xfrm>
        </p:grpSpPr>
        <p:sp>
          <p:nvSpPr>
            <p:cNvPr id="121" name=""/>
            <p:cNvSpPr/>
            <p:nvPr/>
          </p:nvSpPr>
          <p:spPr>
            <a:xfrm>
              <a:off x="1913760" y="1981080"/>
              <a:ext cx="272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a50021"/>
                  </a:solidFill>
                  <a:latin typeface="Verdana"/>
                </a:rPr>
                <a:t>Está soleado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2" name="" descr=""/>
            <p:cNvPicPr/>
            <p:nvPr/>
          </p:nvPicPr>
          <p:blipFill>
            <a:blip r:embed="rId1"/>
            <a:stretch/>
          </p:blipFill>
          <p:spPr>
            <a:xfrm>
              <a:off x="5715000" y="1752480"/>
              <a:ext cx="1212840" cy="121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" name=""/>
          <p:cNvGrpSpPr/>
          <p:nvPr/>
        </p:nvGrpSpPr>
        <p:grpSpPr>
          <a:xfrm>
            <a:off x="1891800" y="5257800"/>
            <a:ext cx="5271120" cy="1243080"/>
            <a:chOff x="1891800" y="5257800"/>
            <a:chExt cx="5271120" cy="1243080"/>
          </a:xfrm>
        </p:grpSpPr>
        <p:sp>
          <p:nvSpPr>
            <p:cNvPr id="124" name=""/>
            <p:cNvSpPr/>
            <p:nvPr/>
          </p:nvSpPr>
          <p:spPr>
            <a:xfrm>
              <a:off x="1891800" y="5715000"/>
              <a:ext cx="2584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a50021"/>
                  </a:solidFill>
                  <a:latin typeface="Verdana"/>
                </a:rPr>
                <a:t>Hay neblina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5" name="" descr=""/>
            <p:cNvPicPr/>
            <p:nvPr/>
          </p:nvPicPr>
          <p:blipFill>
            <a:blip r:embed="rId2"/>
            <a:stretch/>
          </p:blipFill>
          <p:spPr>
            <a:xfrm>
              <a:off x="5638680" y="5257800"/>
              <a:ext cx="1524240" cy="1243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6" name=""/>
          <p:cNvGrpSpPr/>
          <p:nvPr/>
        </p:nvGrpSpPr>
        <p:grpSpPr>
          <a:xfrm>
            <a:off x="1911240" y="3733920"/>
            <a:ext cx="5403960" cy="949320"/>
            <a:chOff x="1911240" y="3733920"/>
            <a:chExt cx="5403960" cy="949320"/>
          </a:xfrm>
        </p:grpSpPr>
        <p:sp>
          <p:nvSpPr>
            <p:cNvPr id="127" name=""/>
            <p:cNvSpPr/>
            <p:nvPr/>
          </p:nvSpPr>
          <p:spPr>
            <a:xfrm>
              <a:off x="1911240" y="3886200"/>
              <a:ext cx="2799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a50021"/>
                  </a:solidFill>
                  <a:latin typeface="Verdana"/>
                </a:rPr>
                <a:t>Está nublado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8" name="" descr=""/>
            <p:cNvPicPr/>
            <p:nvPr/>
          </p:nvPicPr>
          <p:blipFill>
            <a:blip r:embed="rId3"/>
            <a:stretch/>
          </p:blipFill>
          <p:spPr>
            <a:xfrm>
              <a:off x="5410080" y="3733920"/>
              <a:ext cx="1905120" cy="949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pull dir="d"/>
    <p:sndAc>
      <p:stSnd>
        <p:snd r:embed="rId4" name="chimes.wav"/>
      </p:stSnd>
    </p:sndAc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34840" y="228600"/>
            <a:ext cx="629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Verdana"/>
              </a:rPr>
              <a:t>¿Qué tiempo hace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295280" y="1600200"/>
            <a:ext cx="2023920" cy="2971800"/>
            <a:chOff x="1295280" y="1600200"/>
            <a:chExt cx="2023920" cy="2971800"/>
          </a:xfrm>
        </p:grpSpPr>
        <p:sp>
          <p:nvSpPr>
            <p:cNvPr id="131" name=""/>
            <p:cNvSpPr/>
            <p:nvPr/>
          </p:nvSpPr>
          <p:spPr>
            <a:xfrm>
              <a:off x="1535400" y="1600200"/>
              <a:ext cx="1535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a50021"/>
                  </a:solidFill>
                  <a:latin typeface="Verdana"/>
                </a:rPr>
                <a:t>Llueve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2" name="" descr=""/>
            <p:cNvPicPr/>
            <p:nvPr/>
          </p:nvPicPr>
          <p:blipFill>
            <a:blip r:embed="rId1"/>
            <a:stretch/>
          </p:blipFill>
          <p:spPr>
            <a:xfrm>
              <a:off x="1295280" y="2514600"/>
              <a:ext cx="2023920" cy="2057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3" name=""/>
          <p:cNvGrpSpPr/>
          <p:nvPr/>
        </p:nvGrpSpPr>
        <p:grpSpPr>
          <a:xfrm>
            <a:off x="5715000" y="1600200"/>
            <a:ext cx="2106720" cy="3124080"/>
            <a:chOff x="5715000" y="1600200"/>
            <a:chExt cx="2106720" cy="3124080"/>
          </a:xfrm>
        </p:grpSpPr>
        <p:sp>
          <p:nvSpPr>
            <p:cNvPr id="134" name=""/>
            <p:cNvSpPr/>
            <p:nvPr/>
          </p:nvSpPr>
          <p:spPr>
            <a:xfrm>
              <a:off x="6052680" y="1600200"/>
              <a:ext cx="140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a50021"/>
                  </a:solidFill>
                  <a:latin typeface="Verdana"/>
                </a:rPr>
                <a:t>Nieva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5" name="" descr=""/>
            <p:cNvPicPr/>
            <p:nvPr/>
          </p:nvPicPr>
          <p:blipFill>
            <a:blip r:embed="rId2"/>
            <a:stretch/>
          </p:blipFill>
          <p:spPr>
            <a:xfrm>
              <a:off x="5715000" y="2590920"/>
              <a:ext cx="2106720" cy="213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" name=""/>
          <p:cNvSpPr/>
          <p:nvPr/>
        </p:nvSpPr>
        <p:spPr>
          <a:xfrm>
            <a:off x="1094760" y="5518080"/>
            <a:ext cx="193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Verdana"/>
              </a:rPr>
              <a:t>(Va a </a:t>
            </a:r>
            <a:r>
              <a:rPr b="1" i="1" lang="en-US" sz="2400" spc="-1" strike="noStrike" u="sng">
                <a:solidFill>
                  <a:srgbClr val="a50021"/>
                </a:solidFill>
                <a:uFillTx/>
                <a:latin typeface="Verdana"/>
              </a:rPr>
              <a:t>llover</a:t>
            </a:r>
            <a:r>
              <a:rPr b="0" lang="en-US" sz="2400" spc="-1" strike="noStrike">
                <a:solidFill>
                  <a:srgbClr val="a50021"/>
                </a:solidFill>
                <a:latin typeface="Verdana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Verdana"/>
              </a:rPr>
              <a:t>(La lluv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82680" y="5486400"/>
            <a:ext cx="194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Verdana"/>
              </a:rPr>
              <a:t>(Va a </a:t>
            </a:r>
            <a:r>
              <a:rPr b="1" i="1" lang="en-US" sz="2400" spc="-1" strike="noStrike" u="sng">
                <a:solidFill>
                  <a:srgbClr val="a50021"/>
                </a:solidFill>
                <a:uFillTx/>
                <a:latin typeface="Verdana"/>
              </a:rPr>
              <a:t>nevar</a:t>
            </a:r>
            <a:r>
              <a:rPr b="0" lang="en-US" sz="2400" spc="-1" strike="noStrike">
                <a:solidFill>
                  <a:srgbClr val="a50021"/>
                </a:solidFill>
                <a:latin typeface="Verdana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Verdana"/>
              </a:rPr>
              <a:t>(La nie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  <p:sndAc>
      <p:stSnd>
        <p:snd r:embed="rId3" name="chimes.wav"/>
      </p:stSnd>
    </p:sndAc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784080" y="304920"/>
            <a:ext cx="6683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Verdana"/>
              </a:rPr>
              <a:t>¿Qué temperatura ha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568080" y="1828800"/>
            <a:ext cx="7975080" cy="703440"/>
            <a:chOff x="568080" y="1828800"/>
            <a:chExt cx="7975080" cy="703440"/>
          </a:xfrm>
        </p:grpSpPr>
        <p:sp>
          <p:nvSpPr>
            <p:cNvPr id="140" name=""/>
            <p:cNvSpPr/>
            <p:nvPr/>
          </p:nvSpPr>
          <p:spPr>
            <a:xfrm>
              <a:off x="568080" y="1828800"/>
              <a:ext cx="16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a50021"/>
                  </a:solidFill>
                  <a:latin typeface="Verdana"/>
                </a:rPr>
                <a:t>“</a:t>
              </a:r>
              <a:r>
                <a:rPr b="1" lang="en-US" sz="4000" spc="-1" strike="noStrike">
                  <a:solidFill>
                    <a:srgbClr val="a50021"/>
                  </a:solidFill>
                  <a:latin typeface="Verdana"/>
                </a:rPr>
                <a:t>Hac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592000" y="182880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a50021"/>
                  </a:solidFill>
                  <a:latin typeface="Verdana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75720" y="1828800"/>
              <a:ext cx="195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a50021"/>
                  </a:solidFill>
                  <a:latin typeface="Verdana"/>
                </a:rPr>
                <a:t>número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390360" y="1828800"/>
              <a:ext cx="2152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a50021"/>
                  </a:solidFill>
                  <a:latin typeface="Verdana"/>
                </a:rPr>
                <a:t>grados”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487840" y="182880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a50021"/>
                  </a:solidFill>
                  <a:latin typeface="Verdana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5203440" y="2774880"/>
            <a:ext cx="3489840" cy="2697840"/>
            <a:chOff x="5203440" y="2774880"/>
            <a:chExt cx="3489840" cy="2697840"/>
          </a:xfrm>
        </p:grpSpPr>
        <p:pic>
          <p:nvPicPr>
            <p:cNvPr id="146" name="" descr=""/>
            <p:cNvPicPr/>
            <p:nvPr/>
          </p:nvPicPr>
          <p:blipFill>
            <a:blip r:embed="rId1"/>
            <a:stretch/>
          </p:blipFill>
          <p:spPr>
            <a:xfrm>
              <a:off x="7620120" y="2774880"/>
              <a:ext cx="1073160" cy="266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5203440" y="3429000"/>
              <a:ext cx="24912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Hace 95 grad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arenhei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(Hace 35 grad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Centígrado.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57200" y="3886200"/>
            <a:ext cx="3503520" cy="2666880"/>
            <a:chOff x="457200" y="3886200"/>
            <a:chExt cx="3503520" cy="2666880"/>
          </a:xfrm>
        </p:grpSpPr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457200" y="3886200"/>
              <a:ext cx="92700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1469520" y="4267080"/>
              <a:ext cx="24912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Hace 32 grad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arenhei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(Hace 0 grad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Centígrado.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pull dir="d"/>
    <p:sndAc>
      <p:stSnd>
        <p:snd r:embed="rId3" name="chimes.wav"/>
      </p:stSnd>
    </p:sndAc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95680" y="228600"/>
            <a:ext cx="655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Verdana"/>
              </a:rPr>
              <a:t>¿Qué tiempo hace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15640" y="2013120"/>
            <a:ext cx="7087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n el otoño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n el verano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n el mes de diciembr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n Chile en el mes de octubr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  <p:sndAc>
      <p:stSnd>
        <p:snd r:embed="rId1" name="chimes.wav"/>
      </p:stSnd>
    </p:sndAc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75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hrabovecky</cp:lastModifiedBy>
  <dcterms:modified xsi:type="dcterms:W3CDTF">2008-04-16T16:40:38Z</dcterms:modified>
  <cp:revision>11</cp:revision>
  <dc:subject/>
  <dc:title>PowerPoint Presentation</dc:title>
</cp:coreProperties>
</file>